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FA457-A285-4001-A658-19043C4C54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850DE-7384-4530-8230-1D2142D2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57649-F44C-41FA-8AA3-AD667FF9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884F-0081-4DF6-8A35-FA771ED8C8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4017-0AC7-40F3-862E-1E956CC8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94E06-F4AD-4D9C-B758-6EBC1BF2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E28C0-A543-4143-9649-274ED45C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75F38-FA73-4AE6-9A20-39A95E06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70696-53B2-4EC7-A9EB-E933BF09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8034B-6A6D-47C2-B191-81A33858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001EA-4A62-4039-84F9-3D971730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10511-B996-42F6-9A94-B461B8C4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106D-92C1-439C-8E48-C1217DFA7E9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心理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76360" y="5732280"/>
            <a:ext cx="6324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66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300720" y="5516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李红玲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生物反馈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7" descr="20100730_093246"/>
          <p:cNvPicPr/>
          <p:nvPr/>
        </p:nvPicPr>
        <p:blipFill>
          <a:blip r:embed="rId1"/>
          <a:stretch/>
        </p:blipFill>
        <p:spPr>
          <a:xfrm>
            <a:off x="611280" y="1916280"/>
            <a:ext cx="3168720" cy="218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rBEhVFI36DIIAAAAAAPsuLC7NVYAADPMwCJTXAAA-zQ858"/>
          <p:cNvPicPr/>
          <p:nvPr/>
        </p:nvPicPr>
        <p:blipFill>
          <a:blip r:embed="rId2"/>
          <a:stretch/>
        </p:blipFill>
        <p:spPr>
          <a:xfrm>
            <a:off x="5003640" y="1844640"/>
            <a:ext cx="3024360" cy="251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20100730_093130"/>
          <p:cNvPicPr/>
          <p:nvPr/>
        </p:nvPicPr>
        <p:blipFill>
          <a:blip r:embed="rId3"/>
          <a:stretch/>
        </p:blipFill>
        <p:spPr>
          <a:xfrm>
            <a:off x="539640" y="4221000"/>
            <a:ext cx="340056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d2750e6f-ce96-43d6-b3b8-0f28a2ae9755"/>
          <p:cNvPicPr/>
          <p:nvPr/>
        </p:nvPicPr>
        <p:blipFill>
          <a:blip r:embed="rId4"/>
          <a:stretch/>
        </p:blipFill>
        <p:spPr>
          <a:xfrm>
            <a:off x="5364000" y="4724280"/>
            <a:ext cx="266544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774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认知疗法：运用认知行为技术来改变患者的不良认知，从而达到治疗目的的一类心理治疗方法。认知疗法可用于治疗疑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康复治疗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86104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五、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是以心理学理论为指导，运用心理技术，调节人的心理与生理功能，从而防治疾病、恢复健康的一类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818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以语言、行为、情景等为载体，运用某种心理技术，通过调整情绪、改善认知、规范行为，从而起到防病治病、康复身心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07544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专业程度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治疗对象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心理治疗所依据的理论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3160" y="2049120"/>
            <a:ext cx="78724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理评估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实施治疗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巩固结束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864800"/>
            <a:ext cx="8610480" cy="45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二）心理治疗者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思想品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知识能力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素质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5" descr="20100916104642_small"/>
          <p:cNvPicPr/>
          <p:nvPr/>
        </p:nvPicPr>
        <p:blipFill>
          <a:blip r:embed="rId1"/>
          <a:stretch/>
        </p:blipFill>
        <p:spPr>
          <a:xfrm>
            <a:off x="5003640" y="3789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7640" y="1792440"/>
            <a:ext cx="4554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三）心理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精神支持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给患者提供精神上的支持为主要内容的心理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168a1ba578be8cd3cebfe6538538eed1_big"/>
          <p:cNvPicPr/>
          <p:nvPr/>
        </p:nvPicPr>
        <p:blipFill>
          <a:blip r:embed="rId1"/>
          <a:stretch/>
        </p:blipFill>
        <p:spPr>
          <a:xfrm>
            <a:off x="4932360" y="3284640"/>
            <a:ext cx="3714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13744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暗示疗法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不经过逻辑判断，自觉地、不加批判地接受医生灌输的观念，从而取得治疗效果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9920" y="2492280"/>
            <a:ext cx="784836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疗法：行为疗法是基于实验心理学的研究成果，帮助患者消除或建立某种行为，从而达到治疗目的，如脱敏疗法治疗强迫症、奖励良好行为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55:54Z</dcterms:modified>
  <cp:revision>82</cp:revision>
  <dc:subject/>
  <dc:title>内科护理学</dc:title>
</cp:coreProperties>
</file>